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166-C8BB-42D7-9DFB-E3646B28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1080" y="383616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CC2-A1E0-4ACB-AC4B-C3F82F63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42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148-C3CE-4B7E-9CB2-C599BDDE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576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044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108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576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044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FD6E-4667-4391-8361-CA54B2DC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7D1-582B-4D27-BD6E-000AD077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B0F-9696-4C7D-8B1D-01C4F6DE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965C-2AA3-4455-910E-C98CCA75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39D-FA06-4F92-BAEC-C86D46A1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6934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F26-A2BB-4CEF-93DC-C0EA3E86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0A5-3F4F-4F5B-A5FA-FCA0AB1E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42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C01-5755-41B6-9922-50500A28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C58-C569-4D52-9D90-FB52447A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o1" descr=""/>
          <p:cNvPicPr/>
          <p:nvPr/>
        </p:nvPicPr>
        <p:blipFill>
          <a:blip r:embed="rId2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D31A-8BC5-46AE-B3E5-855386CEF13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971800" y="30492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 DE DESARROLLO DE 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743200"/>
            <a:ext cx="7238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Gerencia de Línea Maip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1800" y="30492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CRIP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219320"/>
            <a:ext cx="6629400" cy="4495680"/>
          </a:xfrm>
          <a:prstGeom prst="roundRect">
            <a:avLst>
              <a:gd name="adj" fmla="val 15472"/>
            </a:avLst>
          </a:prstGeom>
          <a:solidFill>
            <a:srgbClr val="00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scripción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ZADO                                  13,5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º ESTACIONES                    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VEL. COMERCIAL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32 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28800" y="22860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 DE METRO 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ren-ligero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4265640" cy="480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5715000" y="18288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72480" y="1704960"/>
            <a:ext cx="1790640" cy="27612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3657600"/>
            <a:ext cx="1409760" cy="33336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Red de 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181120" y="25909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080" y="1400040"/>
            <a:ext cx="1790640" cy="27648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Extensiones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1523880"/>
            <a:ext cx="2361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91120"/>
            <a:ext cx="1409760" cy="63792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Term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Intermod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60560" y="4266720"/>
            <a:ext cx="261144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028840" y="1114560"/>
            <a:ext cx="19810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990720"/>
            <a:ext cx="2171880" cy="304560"/>
          </a:xfrm>
          <a:prstGeom prst="roundRect">
            <a:avLst>
              <a:gd name="adj" fmla="val 2833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xt. L2 Norte Vesp 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181120" y="312372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800240" y="365724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1447920"/>
            <a:ext cx="2895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447920"/>
            <a:ext cx="26668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81080" y="2666880"/>
            <a:ext cx="24591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886200" y="2666880"/>
            <a:ext cx="5335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666880"/>
            <a:ext cx="1067040" cy="1371600"/>
          </a:xfrm>
          <a:custGeom>
            <a:avLst/>
            <a:gdLst/>
            <a:ahLst/>
            <a:rect l="l" t="t" r="r" b="b"/>
            <a:pathLst>
              <a:path w="672" h="864">
                <a:moveTo>
                  <a:pt x="672" y="0"/>
                </a:moveTo>
                <a:lnTo>
                  <a:pt x="336" y="48"/>
                </a:lnTo>
                <a:lnTo>
                  <a:pt x="192" y="48"/>
                </a:lnTo>
                <a:lnTo>
                  <a:pt x="96" y="96"/>
                </a:lnTo>
                <a:lnTo>
                  <a:pt x="0" y="240"/>
                </a:lnTo>
                <a:lnTo>
                  <a:pt x="48" y="432"/>
                </a:lnTo>
                <a:lnTo>
                  <a:pt x="48" y="624"/>
                </a:lnTo>
                <a:lnTo>
                  <a:pt x="48" y="864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715000" y="2057040"/>
            <a:ext cx="533520" cy="152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72480" y="2362320"/>
            <a:ext cx="2171520" cy="304560"/>
          </a:xfrm>
          <a:prstGeom prst="roundRect">
            <a:avLst>
              <a:gd name="adj" fmla="val 2833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1 Or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590920"/>
            <a:ext cx="2171520" cy="304560"/>
          </a:xfrm>
          <a:prstGeom prst="roundRect">
            <a:avLst>
              <a:gd name="adj" fmla="val 28333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Maip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1718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57200" y="2874240"/>
            <a:ext cx="108288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52480" y="23623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228600"/>
            <a:ext cx="632448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DO DE A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14400"/>
            <a:ext cx="7848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uncio Presidencial de Proyecto Línea Maipú 15 Noviembre del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Detalles Piques y Galerías 28 de Junio del 2006, duración 3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Básica 31 de Julio del 2006, duración 9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Detalles Túneles y Estaciones 15 de Octubre del 2006, duración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Construcción de Piques y Galerías Tramo San Pablo y Eje Pajaritos 01 de Noviembre del 2006, duración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3880" y="1752480"/>
            <a:ext cx="5943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TRABAJAMOS PARA MEJORAR SANTIA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 flipH="1" rot="10800000">
            <a:off x="2819520" y="532800"/>
            <a:ext cx="3660480" cy="742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477120" y="6019920"/>
            <a:ext cx="2438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4724280"/>
            <a:ext cx="3429000" cy="114300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33:44Z</dcterms:created>
  <dc:creator>Alejandro Orellana</dc:creator>
  <dc:description/>
  <dc:language>en-US</dc:language>
  <cp:lastModifiedBy>METRO S.A.</cp:lastModifiedBy>
  <cp:lastPrinted>2004-06-21T20:21:39Z</cp:lastPrinted>
  <dcterms:modified xsi:type="dcterms:W3CDTF">2006-08-25T19:23:36Z</dcterms:modified>
  <cp:revision>364</cp:revision>
  <dc:subject/>
  <dc:title>Presentación de PowerPoint</dc:title>
</cp:coreProperties>
</file>